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4.wmf" ContentType="image/x-wmf"/>
  <Override PartName="/ppt/media/image8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6.jpeg" ContentType="image/jpeg"/>
  <Override PartName="/ppt/media/image1.jpeg" ContentType="image/jpeg"/>
  <Override PartName="/ppt/media/image7.png" ContentType="image/png"/>
  <Override PartName="/ppt/media/image9.jpeg" ContentType="image/jpeg"/>
  <Override PartName="/ppt/media/bomb.wav" ContentType="audio/x-wav"/>
  <Override PartName="/ppt/media/image11.png" ContentType="image/png"/>
  <Override PartName="/ppt/media/image10.gif" ContentType="image/gif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2F06-A4CB-473A-B3C5-4D239AC04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0DBA-240F-428D-A454-7C14AE51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8BBA-86A4-408E-BA78-97A1D3C2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0E90-84A3-47C5-A9CA-CC0C1E694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29E2-1B1E-4193-9BF3-9BAA8D59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5058-02C3-4D98-A887-8CFE8A47D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C2D1-814F-4AFA-B3FF-1B475251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A95A-B6A7-4C8B-9DE9-FA927FA4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FBA2-7C1A-4BC3-8F62-BD8451218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3E3F-F43F-44B4-8614-90660F554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8506-E553-48D3-A8CF-4826C1950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D823-E529-45BF-B882-2231AF2C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BD68-16A0-419A-9B20-31AE65CF8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image" Target="../media/image2.wmf"/><Relationship Id="rId10" Type="http://schemas.openxmlformats.org/officeDocument/2006/relationships/slide" Target="slide3.xml"/><Relationship Id="rId11" Type="http://schemas.openxmlformats.org/officeDocument/2006/relationships/image" Target="../media/image3.png"/><Relationship Id="rId12" Type="http://schemas.openxmlformats.org/officeDocument/2006/relationships/slide" Target="slide4.xml"/><Relationship Id="rId13" Type="http://schemas.openxmlformats.org/officeDocument/2006/relationships/image" Target="../media/image4.wmf"/><Relationship Id="rId14" Type="http://schemas.openxmlformats.org/officeDocument/2006/relationships/slide" Target="slide5.xml"/><Relationship Id="rId15" Type="http://schemas.openxmlformats.org/officeDocument/2006/relationships/image" Target="../media/image5.png"/><Relationship Id="rId16" Type="http://schemas.openxmlformats.org/officeDocument/2006/relationships/slide" Target="slide6.xml"/><Relationship Id="rId17" Type="http://schemas.openxmlformats.org/officeDocument/2006/relationships/image" Target="../media/image6.jpeg"/><Relationship Id="rId18" Type="http://schemas.openxmlformats.org/officeDocument/2006/relationships/slide" Target="slide8.xml"/><Relationship Id="rId19" Type="http://schemas.openxmlformats.org/officeDocument/2006/relationships/image" Target="../media/image7.png"/><Relationship Id="rId20" Type="http://schemas.openxmlformats.org/officeDocument/2006/relationships/slide" Target="slide9.xml"/><Relationship Id="rId21" Type="http://schemas.openxmlformats.org/officeDocument/2006/relationships/image" Target="../media/image8.jpeg"/><Relationship Id="rId22" Type="http://schemas.openxmlformats.org/officeDocument/2006/relationships/slide" Target="slide7.xml"/><Relationship Id="rId23" Type="http://schemas.openxmlformats.org/officeDocument/2006/relationships/image" Target="../media/image9.jpeg"/><Relationship Id="rId24" Type="http://schemas.openxmlformats.org/officeDocument/2006/relationships/audio" Target="../media/bomb.wav"/><Relationship Id="rId2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j04390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on the buttons to learn about our American Symb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537120" y="6164280"/>
            <a:ext cx="221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 Black"/>
              </a:rPr>
              <a:t>Created by: dijob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7">
            <a:hlinkClick r:id="rId2" action="ppaction://hlinksldjump"/>
          </p:cNvPr>
          <p:cNvSpPr/>
          <p:nvPr/>
        </p:nvSpPr>
        <p:spPr>
          <a:xfrm>
            <a:off x="1447920" y="2590920"/>
            <a:ext cx="1295280" cy="144756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1447560"/>
              <a:gd name="textAreaBottom" fmla="*/ 1363680 h 1447560"/>
            </a:gdLst>
            <a:ahLst/>
            <a:rect l="textAreaLeft" t="textAreaTop" r="textAreaRight" b="textAreaBottom"/>
            <a:pathLst>
              <a:path w="21600" h="24139">
                <a:moveTo>
                  <a:pt x="0" y="0"/>
                </a:moveTo>
                <a:lnTo>
                  <a:pt x="21600" y="0"/>
                </a:lnTo>
                <a:lnTo>
                  <a:pt x="21600" y="24139"/>
                </a:lnTo>
                <a:lnTo>
                  <a:pt x="0" y="24139"/>
                </a:lnTo>
                <a:close/>
              </a:path>
              <a:path fill="lightenLess" w="21600" h="241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39">
                <a:moveTo>
                  <a:pt x="21600" y="0"/>
                </a:moveTo>
                <a:lnTo>
                  <a:pt x="21600" y="24139"/>
                </a:lnTo>
                <a:lnTo>
                  <a:pt x="20200" y="22739"/>
                </a:lnTo>
                <a:lnTo>
                  <a:pt x="20200" y="1400"/>
                </a:lnTo>
                <a:close/>
              </a:path>
              <a:path fill="darkenLess" w="21600" h="24139">
                <a:moveTo>
                  <a:pt x="21600" y="24139"/>
                </a:moveTo>
                <a:lnTo>
                  <a:pt x="0" y="24139"/>
                </a:lnTo>
                <a:lnTo>
                  <a:pt x="1400" y="22739"/>
                </a:lnTo>
                <a:lnTo>
                  <a:pt x="20200" y="22739"/>
                </a:lnTo>
                <a:close/>
              </a:path>
              <a:path fill="lighten" w="21600" h="24139">
                <a:moveTo>
                  <a:pt x="0" y="2413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39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8">
            <a:hlinkClick r:id="rId3" action="ppaction://hlinksldjump"/>
          </p:cNvPr>
          <p:cNvSpPr/>
          <p:nvPr/>
        </p:nvSpPr>
        <p:spPr>
          <a:xfrm>
            <a:off x="1447920" y="4267080"/>
            <a:ext cx="1295280" cy="144792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1447920"/>
              <a:gd name="textAreaBottom" fmla="*/ 1364040 h 1447920"/>
            </a:gdLst>
            <a:ahLst/>
            <a:rect l="textAreaLeft" t="textAreaTop" r="textAreaRight" b="textAreaBottom"/>
            <a:pathLst>
              <a:path w="21600" h="24145">
                <a:moveTo>
                  <a:pt x="0" y="0"/>
                </a:moveTo>
                <a:lnTo>
                  <a:pt x="21600" y="0"/>
                </a:lnTo>
                <a:lnTo>
                  <a:pt x="21600" y="24145"/>
                </a:lnTo>
                <a:lnTo>
                  <a:pt x="0" y="24145"/>
                </a:lnTo>
                <a:close/>
              </a:path>
              <a:path fill="lightenLess" w="21600" h="241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5">
                <a:moveTo>
                  <a:pt x="21600" y="0"/>
                </a:moveTo>
                <a:lnTo>
                  <a:pt x="21600" y="24145"/>
                </a:lnTo>
                <a:lnTo>
                  <a:pt x="20200" y="22745"/>
                </a:lnTo>
                <a:lnTo>
                  <a:pt x="20200" y="1400"/>
                </a:lnTo>
                <a:close/>
              </a:path>
              <a:path fill="darkenLess" w="21600" h="24145">
                <a:moveTo>
                  <a:pt x="21600" y="24145"/>
                </a:moveTo>
                <a:lnTo>
                  <a:pt x="0" y="24145"/>
                </a:lnTo>
                <a:lnTo>
                  <a:pt x="1400" y="22745"/>
                </a:lnTo>
                <a:lnTo>
                  <a:pt x="20200" y="22745"/>
                </a:lnTo>
                <a:close/>
              </a:path>
              <a:path fill="lighten" w="21600" h="24145">
                <a:moveTo>
                  <a:pt x="0" y="241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5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>
            <a:hlinkClick r:id="rId4" action="ppaction://hlinksldjump"/>
          </p:cNvPr>
          <p:cNvSpPr/>
          <p:nvPr/>
        </p:nvSpPr>
        <p:spPr>
          <a:xfrm>
            <a:off x="3048120" y="4267080"/>
            <a:ext cx="1295280" cy="144792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1447920"/>
              <a:gd name="textAreaBottom" fmla="*/ 1364040 h 1447920"/>
            </a:gdLst>
            <a:ahLst/>
            <a:rect l="textAreaLeft" t="textAreaTop" r="textAreaRight" b="textAreaBottom"/>
            <a:pathLst>
              <a:path w="21600" h="24145">
                <a:moveTo>
                  <a:pt x="0" y="0"/>
                </a:moveTo>
                <a:lnTo>
                  <a:pt x="21600" y="0"/>
                </a:lnTo>
                <a:lnTo>
                  <a:pt x="21600" y="24145"/>
                </a:lnTo>
                <a:lnTo>
                  <a:pt x="0" y="24145"/>
                </a:lnTo>
                <a:close/>
              </a:path>
              <a:path fill="lightenLess" w="21600" h="241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5">
                <a:moveTo>
                  <a:pt x="21600" y="0"/>
                </a:moveTo>
                <a:lnTo>
                  <a:pt x="21600" y="24145"/>
                </a:lnTo>
                <a:lnTo>
                  <a:pt x="20200" y="22745"/>
                </a:lnTo>
                <a:lnTo>
                  <a:pt x="20200" y="1400"/>
                </a:lnTo>
                <a:close/>
              </a:path>
              <a:path fill="darkenLess" w="21600" h="24145">
                <a:moveTo>
                  <a:pt x="21600" y="24145"/>
                </a:moveTo>
                <a:lnTo>
                  <a:pt x="0" y="24145"/>
                </a:lnTo>
                <a:lnTo>
                  <a:pt x="1400" y="22745"/>
                </a:lnTo>
                <a:lnTo>
                  <a:pt x="20200" y="22745"/>
                </a:lnTo>
                <a:close/>
              </a:path>
              <a:path fill="lighten" w="21600" h="24145">
                <a:moveTo>
                  <a:pt x="0" y="241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5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971800" y="2590920"/>
            <a:ext cx="1295280" cy="144756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1447560"/>
              <a:gd name="textAreaBottom" fmla="*/ 1363680 h 1447560"/>
            </a:gdLst>
            <a:ahLst/>
            <a:rect l="textAreaLeft" t="textAreaTop" r="textAreaRight" b="textAreaBottom"/>
            <a:pathLst>
              <a:path w="21600" h="24139">
                <a:moveTo>
                  <a:pt x="0" y="0"/>
                </a:moveTo>
                <a:lnTo>
                  <a:pt x="21600" y="0"/>
                </a:lnTo>
                <a:lnTo>
                  <a:pt x="21600" y="24139"/>
                </a:lnTo>
                <a:lnTo>
                  <a:pt x="0" y="24139"/>
                </a:lnTo>
                <a:close/>
              </a:path>
              <a:path fill="lightenLess" w="21600" h="241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39">
                <a:moveTo>
                  <a:pt x="21600" y="0"/>
                </a:moveTo>
                <a:lnTo>
                  <a:pt x="21600" y="24139"/>
                </a:lnTo>
                <a:lnTo>
                  <a:pt x="20200" y="22739"/>
                </a:lnTo>
                <a:lnTo>
                  <a:pt x="20200" y="1400"/>
                </a:lnTo>
                <a:close/>
              </a:path>
              <a:path fill="darkenLess" w="21600" h="24139">
                <a:moveTo>
                  <a:pt x="21600" y="24139"/>
                </a:moveTo>
                <a:lnTo>
                  <a:pt x="0" y="24139"/>
                </a:lnTo>
                <a:lnTo>
                  <a:pt x="1400" y="22739"/>
                </a:lnTo>
                <a:lnTo>
                  <a:pt x="20200" y="22739"/>
                </a:lnTo>
                <a:close/>
              </a:path>
              <a:path fill="lighten" w="21600" h="24139">
                <a:moveTo>
                  <a:pt x="0" y="2413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39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11">
            <a:hlinkClick r:id="rId5" action="ppaction://hlinksldjump"/>
          </p:cNvPr>
          <p:cNvSpPr/>
          <p:nvPr/>
        </p:nvSpPr>
        <p:spPr>
          <a:xfrm>
            <a:off x="4572000" y="4267080"/>
            <a:ext cx="1295280" cy="144792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1447920"/>
              <a:gd name="textAreaBottom" fmla="*/ 1364040 h 1447920"/>
            </a:gdLst>
            <a:ahLst/>
            <a:rect l="textAreaLeft" t="textAreaTop" r="textAreaRight" b="textAreaBottom"/>
            <a:pathLst>
              <a:path w="21600" h="24145">
                <a:moveTo>
                  <a:pt x="0" y="0"/>
                </a:moveTo>
                <a:lnTo>
                  <a:pt x="21600" y="0"/>
                </a:lnTo>
                <a:lnTo>
                  <a:pt x="21600" y="24145"/>
                </a:lnTo>
                <a:lnTo>
                  <a:pt x="0" y="24145"/>
                </a:lnTo>
                <a:close/>
              </a:path>
              <a:path fill="lightenLess" w="21600" h="241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5">
                <a:moveTo>
                  <a:pt x="21600" y="0"/>
                </a:moveTo>
                <a:lnTo>
                  <a:pt x="21600" y="24145"/>
                </a:lnTo>
                <a:lnTo>
                  <a:pt x="20200" y="22745"/>
                </a:lnTo>
                <a:lnTo>
                  <a:pt x="20200" y="1400"/>
                </a:lnTo>
                <a:close/>
              </a:path>
              <a:path fill="darkenLess" w="21600" h="24145">
                <a:moveTo>
                  <a:pt x="21600" y="24145"/>
                </a:moveTo>
                <a:lnTo>
                  <a:pt x="0" y="24145"/>
                </a:lnTo>
                <a:lnTo>
                  <a:pt x="1400" y="22745"/>
                </a:lnTo>
                <a:lnTo>
                  <a:pt x="20200" y="22745"/>
                </a:lnTo>
                <a:close/>
              </a:path>
              <a:path fill="lighten" w="21600" h="24145">
                <a:moveTo>
                  <a:pt x="0" y="241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5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2">
            <a:hlinkClick r:id="rId6" action="ppaction://hlinksldjump"/>
          </p:cNvPr>
          <p:cNvSpPr/>
          <p:nvPr/>
        </p:nvSpPr>
        <p:spPr>
          <a:xfrm>
            <a:off x="6019920" y="4267080"/>
            <a:ext cx="1295280" cy="144792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1447920"/>
              <a:gd name="textAreaBottom" fmla="*/ 1364040 h 1447920"/>
            </a:gdLst>
            <a:ahLst/>
            <a:rect l="textAreaLeft" t="textAreaTop" r="textAreaRight" b="textAreaBottom"/>
            <a:pathLst>
              <a:path w="21600" h="24145">
                <a:moveTo>
                  <a:pt x="0" y="0"/>
                </a:moveTo>
                <a:lnTo>
                  <a:pt x="21600" y="0"/>
                </a:lnTo>
                <a:lnTo>
                  <a:pt x="21600" y="24145"/>
                </a:lnTo>
                <a:lnTo>
                  <a:pt x="0" y="24145"/>
                </a:lnTo>
                <a:close/>
              </a:path>
              <a:path fill="lightenLess" w="21600" h="241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45">
                <a:moveTo>
                  <a:pt x="21600" y="0"/>
                </a:moveTo>
                <a:lnTo>
                  <a:pt x="21600" y="24145"/>
                </a:lnTo>
                <a:lnTo>
                  <a:pt x="20200" y="22745"/>
                </a:lnTo>
                <a:lnTo>
                  <a:pt x="20200" y="1400"/>
                </a:lnTo>
                <a:close/>
              </a:path>
              <a:path fill="darkenLess" w="21600" h="24145">
                <a:moveTo>
                  <a:pt x="21600" y="24145"/>
                </a:moveTo>
                <a:lnTo>
                  <a:pt x="0" y="24145"/>
                </a:lnTo>
                <a:lnTo>
                  <a:pt x="1400" y="22745"/>
                </a:lnTo>
                <a:lnTo>
                  <a:pt x="20200" y="22745"/>
                </a:lnTo>
                <a:close/>
              </a:path>
              <a:path fill="lighten" w="21600" h="24145">
                <a:moveTo>
                  <a:pt x="0" y="241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45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3">
            <a:hlinkClick r:id="rId7" action="ppaction://hlinksldjump"/>
          </p:cNvPr>
          <p:cNvSpPr/>
          <p:nvPr/>
        </p:nvSpPr>
        <p:spPr>
          <a:xfrm>
            <a:off x="4495680" y="2590920"/>
            <a:ext cx="1295640" cy="1447560"/>
          </a:xfrm>
          <a:custGeom>
            <a:avLst/>
            <a:gdLst>
              <a:gd name="textAreaLeft" fmla="*/ 83880 w 1295640"/>
              <a:gd name="textAreaRight" fmla="*/ 1211760 w 1295640"/>
              <a:gd name="textAreaTop" fmla="*/ 83880 h 1447560"/>
              <a:gd name="textAreaBottom" fmla="*/ 1363680 h 1447560"/>
            </a:gdLst>
            <a:ahLst/>
            <a:rect l="textAreaLeft" t="textAreaTop" r="textAreaRight" b="textAreaBottom"/>
            <a:pathLst>
              <a:path w="21600" h="24132">
                <a:moveTo>
                  <a:pt x="0" y="0"/>
                </a:moveTo>
                <a:lnTo>
                  <a:pt x="21600" y="0"/>
                </a:lnTo>
                <a:lnTo>
                  <a:pt x="21600" y="24132"/>
                </a:lnTo>
                <a:lnTo>
                  <a:pt x="0" y="24132"/>
                </a:lnTo>
                <a:close/>
              </a:path>
              <a:path fill="lightenLess" w="21600" h="241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32">
                <a:moveTo>
                  <a:pt x="21600" y="0"/>
                </a:moveTo>
                <a:lnTo>
                  <a:pt x="21600" y="24132"/>
                </a:lnTo>
                <a:lnTo>
                  <a:pt x="20200" y="22732"/>
                </a:lnTo>
                <a:lnTo>
                  <a:pt x="20200" y="1400"/>
                </a:lnTo>
                <a:close/>
              </a:path>
              <a:path fill="darkenLess" w="21600" h="24132">
                <a:moveTo>
                  <a:pt x="21600" y="24132"/>
                </a:moveTo>
                <a:lnTo>
                  <a:pt x="0" y="24132"/>
                </a:lnTo>
                <a:lnTo>
                  <a:pt x="1400" y="22732"/>
                </a:lnTo>
                <a:lnTo>
                  <a:pt x="20200" y="22732"/>
                </a:lnTo>
                <a:close/>
              </a:path>
              <a:path fill="lighten" w="21600" h="24132">
                <a:moveTo>
                  <a:pt x="0" y="2413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32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4">
            <a:hlinkClick r:id="rId8" action="ppaction://hlinksldjump"/>
          </p:cNvPr>
          <p:cNvSpPr/>
          <p:nvPr/>
        </p:nvSpPr>
        <p:spPr>
          <a:xfrm>
            <a:off x="6019920" y="2590920"/>
            <a:ext cx="1295280" cy="1447560"/>
          </a:xfrm>
          <a:custGeom>
            <a:avLst/>
            <a:gdLst>
              <a:gd name="textAreaLeft" fmla="*/ 83880 w 1295280"/>
              <a:gd name="textAreaRight" fmla="*/ 1211400 w 1295280"/>
              <a:gd name="textAreaTop" fmla="*/ 83880 h 1447560"/>
              <a:gd name="textAreaBottom" fmla="*/ 1363680 h 1447560"/>
            </a:gdLst>
            <a:ahLst/>
            <a:rect l="textAreaLeft" t="textAreaTop" r="textAreaRight" b="textAreaBottom"/>
            <a:pathLst>
              <a:path w="21600" h="24139">
                <a:moveTo>
                  <a:pt x="0" y="0"/>
                </a:moveTo>
                <a:lnTo>
                  <a:pt x="21600" y="0"/>
                </a:lnTo>
                <a:lnTo>
                  <a:pt x="21600" y="24139"/>
                </a:lnTo>
                <a:lnTo>
                  <a:pt x="0" y="24139"/>
                </a:lnTo>
                <a:close/>
              </a:path>
              <a:path fill="lightenLess" w="21600" h="2413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139">
                <a:moveTo>
                  <a:pt x="21600" y="0"/>
                </a:moveTo>
                <a:lnTo>
                  <a:pt x="21600" y="24139"/>
                </a:lnTo>
                <a:lnTo>
                  <a:pt x="20200" y="22739"/>
                </a:lnTo>
                <a:lnTo>
                  <a:pt x="20200" y="1400"/>
                </a:lnTo>
                <a:close/>
              </a:path>
              <a:path fill="darkenLess" w="21600" h="24139">
                <a:moveTo>
                  <a:pt x="21600" y="24139"/>
                </a:moveTo>
                <a:lnTo>
                  <a:pt x="0" y="24139"/>
                </a:lnTo>
                <a:lnTo>
                  <a:pt x="1400" y="22739"/>
                </a:lnTo>
                <a:lnTo>
                  <a:pt x="20200" y="22739"/>
                </a:lnTo>
                <a:close/>
              </a:path>
              <a:path fill="lighten" w="21600" h="24139">
                <a:moveTo>
                  <a:pt x="0" y="2413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739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6" descr="j0216590"/>
          <p:cNvPicPr/>
          <p:nvPr/>
        </p:nvPicPr>
        <p:blipFill>
          <a:blip r:embed="rId9"/>
          <a:stretch/>
        </p:blipFill>
        <p:spPr>
          <a:xfrm>
            <a:off x="1523880" y="2666880"/>
            <a:ext cx="1082880" cy="12193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7" descr="MCj04363740000[1]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2743200" y="2666880"/>
            <a:ext cx="1676520" cy="1295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MCj01544960000[1]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572000" y="2743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1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172200" y="2743200"/>
            <a:ext cx="979560" cy="1150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2" descr="Mount Rushmore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1523880" y="434340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4" descr="MCj04362220000[1]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4648320" y="43434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5" descr="MPj04010860000[1]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6095880" y="4343400"/>
            <a:ext cx="1143000" cy="1295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6" descr="MPj04027260000[1]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3124080" y="4343400"/>
            <a:ext cx="1143000" cy="121932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24" name="bomb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lors of the flag are red, white and b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50 stars to represent 50 st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13 stripes represent the first thirteen colon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j0219104"/>
          <p:cNvPicPr/>
          <p:nvPr/>
        </p:nvPicPr>
        <p:blipFill>
          <a:blip r:embed="rId1"/>
          <a:stretch/>
        </p:blipFill>
        <p:spPr>
          <a:xfrm>
            <a:off x="5181480" y="1066680"/>
            <a:ext cx="3676680" cy="351972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6">
            <a:hlinkClick r:id="" action="ppaction://hlinkshowjump?jump=firstslide"/>
          </p:cNvPr>
          <p:cNvSpPr/>
          <p:nvPr/>
        </p:nvSpPr>
        <p:spPr>
          <a:xfrm>
            <a:off x="76960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685800" y="5943600"/>
            <a:ext cx="6477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tue of Libe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5715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was a gift from Fr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stands in New York Harb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is 151 feet t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is a symbol of freedom and democra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 represented hope and freedom to the immigrants who came here from other coun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MCj04363740000[1]"/>
          <p:cNvPicPr/>
          <p:nvPr/>
        </p:nvPicPr>
        <p:blipFill>
          <a:blip r:embed="rId1"/>
          <a:stretch/>
        </p:blipFill>
        <p:spPr>
          <a:xfrm>
            <a:off x="5105520" y="144792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68" name="AutoShape 6">
            <a:hlinkClick r:id="" action="ppaction://hlinkshowjump?jump=firstslide"/>
          </p:cNvPr>
          <p:cNvSpPr/>
          <p:nvPr/>
        </p:nvSpPr>
        <p:spPr>
          <a:xfrm>
            <a:off x="7772400" y="5638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>
            <a:off x="838080" y="6172200"/>
            <a:ext cx="6477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ald Ea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4267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ld eagle was chosen as a symbol for our country because it symbolizes courage, strength, and freed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ald eagle can be seen in many places like the President’s flag, and it can be seen on a one dollar bi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5486400" y="1828800"/>
            <a:ext cx="2511360" cy="2819520"/>
          </a:xfrm>
          <a:prstGeom prst="rect">
            <a:avLst/>
          </a:prstGeom>
          <a:ln w="0">
            <a:noFill/>
          </a:ln>
        </p:spPr>
      </p:pic>
      <p:sp>
        <p:nvSpPr>
          <p:cNvPr id="73" name="AutoShape 5">
            <a:hlinkClick r:id="" action="ppaction://hlinkshowjump?jump=firstslide"/>
          </p:cNvPr>
          <p:cNvSpPr/>
          <p:nvPr/>
        </p:nvSpPr>
        <p:spPr>
          <a:xfrm>
            <a:off x="76201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6"/>
          <p:cNvSpPr/>
          <p:nvPr/>
        </p:nvSpPr>
        <p:spPr>
          <a:xfrm>
            <a:off x="685800" y="5943600"/>
            <a:ext cx="6477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Liberty B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" descr=""/>
          <p:cNvPicPr/>
          <p:nvPr/>
        </p:nvPicPr>
        <p:blipFill>
          <a:blip r:embed="rId1"/>
          <a:stretch/>
        </p:blipFill>
        <p:spPr>
          <a:xfrm>
            <a:off x="6172200" y="1905120"/>
            <a:ext cx="2500200" cy="29383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152280" y="1905120"/>
            <a:ext cx="64771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iberty bell c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found in Philadelphi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nnsylvan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rang when congress signed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eclaration of Indepen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eighs about 2000 pounds and in 1846 a crack appea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5">
            <a:hlinkClick r:id="" action="ppaction://hlinkshowjump?jump=firstslide"/>
          </p:cNvPr>
          <p:cNvSpPr/>
          <p:nvPr/>
        </p:nvSpPr>
        <p:spPr>
          <a:xfrm>
            <a:off x="76201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685800" y="5943600"/>
            <a:ext cx="6477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unt Rushm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ial in honor of Presidents Washington, Jefferson, Roosevelt, and Linco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-foot high f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by Gutzon Borglum in the Black Hills of South Dak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Mount Rushmore"/>
          <p:cNvPicPr/>
          <p:nvPr/>
        </p:nvPicPr>
        <p:blipFill>
          <a:blip r:embed="rId1"/>
          <a:stretch/>
        </p:blipFill>
        <p:spPr>
          <a:xfrm>
            <a:off x="3048120" y="3429000"/>
            <a:ext cx="3200400" cy="2400480"/>
          </a:xfrm>
          <a:prstGeom prst="rect">
            <a:avLst/>
          </a:prstGeom>
          <a:ln w="0">
            <a:noFill/>
          </a:ln>
        </p:spPr>
      </p:pic>
      <p:sp>
        <p:nvSpPr>
          <p:cNvPr id="83" name="AutoShape 6">
            <a:hlinkClick r:id="" action="ppaction://hlinkshowjump?jump=firstslide"/>
          </p:cNvPr>
          <p:cNvSpPr/>
          <p:nvPr/>
        </p:nvSpPr>
        <p:spPr>
          <a:xfrm>
            <a:off x="762012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>
            <a:off x="609480" y="6248520"/>
            <a:ext cx="6477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hite Hou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914400"/>
            <a:ext cx="70102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the home of the Presid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located at 1600 Pennsylvania Avenue, Washington, D.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orge Washington is the only President who didn’t live t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sident’s Office is called the Oval Off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MPj04027260000[1]"/>
          <p:cNvPicPr/>
          <p:nvPr/>
        </p:nvPicPr>
        <p:blipFill>
          <a:blip r:embed="rId1"/>
          <a:stretch/>
        </p:blipFill>
        <p:spPr>
          <a:xfrm>
            <a:off x="2971800" y="3505320"/>
            <a:ext cx="4114800" cy="2741400"/>
          </a:xfrm>
          <a:prstGeom prst="rect">
            <a:avLst/>
          </a:prstGeom>
          <a:ln w="0">
            <a:noFill/>
          </a:ln>
        </p:spPr>
      </p:pic>
      <p:sp>
        <p:nvSpPr>
          <p:cNvPr id="88" name="AutoShape 7">
            <a:hlinkClick r:id="" action="ppaction://hlinkshowjump?jump=firstslide"/>
          </p:cNvPr>
          <p:cNvSpPr/>
          <p:nvPr/>
        </p:nvSpPr>
        <p:spPr>
          <a:xfrm>
            <a:off x="7696080" y="5562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10804" y="3837"/>
                </a:moveTo>
                <a:lnTo>
                  <a:pt x="13380" y="6448"/>
                </a:ln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lnTo>
                  <a:pt x="17767" y="10800"/>
                </a:lnTo>
                <a:lnTo>
                  <a:pt x="16113" y="10800"/>
                </a:lnTo>
                <a:lnTo>
                  <a:pt x="16113" y="17989"/>
                </a:lnTo>
                <a:lnTo>
                  <a:pt x="5494" y="17989"/>
                </a:lnTo>
                <a:lnTo>
                  <a:pt x="5494" y="10800"/>
                </a:lnTo>
                <a:lnTo>
                  <a:pt x="3841" y="10800"/>
                </a:lnTo>
                <a:close/>
              </a:path>
              <a:path fill="darkenLess" w="21607" h="21600">
                <a:moveTo>
                  <a:pt x="13380" y="6448"/>
                </a:moveTo>
                <a:lnTo>
                  <a:pt x="13380" y="4707"/>
                </a:lnTo>
                <a:lnTo>
                  <a:pt x="15156" y="4707"/>
                </a:lnTo>
                <a:lnTo>
                  <a:pt x="15156" y="8224"/>
                </a:lnTo>
                <a:close/>
              </a:path>
              <a:path fill="darkenLess" w="21607" h="21600">
                <a:moveTo>
                  <a:pt x="9881" y="14299"/>
                </a:moveTo>
                <a:lnTo>
                  <a:pt x="11726" y="14299"/>
                </a:lnTo>
                <a:lnTo>
                  <a:pt x="11726" y="17989"/>
                </a:lnTo>
                <a:lnTo>
                  <a:pt x="16113" y="17989"/>
                </a:lnTo>
                <a:lnTo>
                  <a:pt x="16113" y="10800"/>
                </a:lnTo>
                <a:lnTo>
                  <a:pt x="5494" y="10800"/>
                </a:lnTo>
                <a:lnTo>
                  <a:pt x="5494" y="17989"/>
                </a:lnTo>
                <a:lnTo>
                  <a:pt x="9881" y="1798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914400" y="6477120"/>
            <a:ext cx="6477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cle S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gress adopted Uncle Sam as an official symbol in 196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is best known for his army recruiting posters, which sai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MCj04362220000[1]"/>
          <p:cNvPicPr/>
          <p:nvPr/>
        </p:nvPicPr>
        <p:blipFill>
          <a:blip r:embed="rId1"/>
          <a:stretch/>
        </p:blipFill>
        <p:spPr>
          <a:xfrm>
            <a:off x="4495680" y="342900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5"/>
          <p:cNvSpPr/>
          <p:nvPr/>
        </p:nvSpPr>
        <p:spPr>
          <a:xfrm>
            <a:off x="2082600" y="4419720"/>
            <a:ext cx="229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 want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6">
            <a:hlinkClick r:id="" action="ppaction://hlinkshowjump?jump=firstslide"/>
          </p:cNvPr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7"/>
          <p:cNvSpPr/>
          <p:nvPr/>
        </p:nvSpPr>
        <p:spPr>
          <a:xfrm>
            <a:off x="762120" y="624852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Washington Mon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MPj04010860000[1]"/>
          <p:cNvPicPr/>
          <p:nvPr/>
        </p:nvPicPr>
        <p:blipFill>
          <a:blip r:embed="rId1"/>
          <a:stretch/>
        </p:blipFill>
        <p:spPr>
          <a:xfrm>
            <a:off x="2666880" y="990720"/>
            <a:ext cx="3606840" cy="28875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1143000" y="3886200"/>
            <a:ext cx="70102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built as a memorial to our first President, George Washingt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eighs 90,854 t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tands nearly 556 feet ta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s image is mirrored in the reflecting po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7">
            <a:hlinkClick r:id="" action="ppaction://hlinkshowjump?jump=firstslide"/>
          </p:cNvPr>
          <p:cNvSpPr/>
          <p:nvPr/>
        </p:nvSpPr>
        <p:spPr>
          <a:xfrm>
            <a:off x="7772400" y="5638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10800" y="3841"/>
                </a:moveTo>
                <a:lnTo>
                  <a:pt x="13376" y="6452"/>
                </a:ln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lnTo>
                  <a:pt x="17763" y="10804"/>
                </a:lnTo>
                <a:lnTo>
                  <a:pt x="16109" y="10804"/>
                </a:lnTo>
                <a:lnTo>
                  <a:pt x="16109" y="17993"/>
                </a:lnTo>
                <a:lnTo>
                  <a:pt x="5491" y="17993"/>
                </a:lnTo>
                <a:lnTo>
                  <a:pt x="5491" y="10804"/>
                </a:lnTo>
                <a:lnTo>
                  <a:pt x="3837" y="10804"/>
                </a:lnTo>
                <a:close/>
              </a:path>
              <a:path fill="darkenLess" w="21600" h="21607">
                <a:moveTo>
                  <a:pt x="13376" y="6452"/>
                </a:moveTo>
                <a:lnTo>
                  <a:pt x="13376" y="4711"/>
                </a:lnTo>
                <a:lnTo>
                  <a:pt x="15152" y="4711"/>
                </a:lnTo>
                <a:lnTo>
                  <a:pt x="15152" y="8227"/>
                </a:lnTo>
                <a:close/>
              </a:path>
              <a:path fill="darkenLess" w="21600" h="21607">
                <a:moveTo>
                  <a:pt x="9877" y="14303"/>
                </a:moveTo>
                <a:lnTo>
                  <a:pt x="11723" y="14303"/>
                </a:lnTo>
                <a:lnTo>
                  <a:pt x="11723" y="17993"/>
                </a:lnTo>
                <a:lnTo>
                  <a:pt x="16109" y="17993"/>
                </a:lnTo>
                <a:lnTo>
                  <a:pt x="16109" y="10804"/>
                </a:lnTo>
                <a:lnTo>
                  <a:pt x="5491" y="10804"/>
                </a:lnTo>
                <a:lnTo>
                  <a:pt x="5491" y="17993"/>
                </a:lnTo>
                <a:lnTo>
                  <a:pt x="9877" y="17993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990720" y="6400800"/>
            <a:ext cx="6476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9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9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9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9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7:23:09Z</dcterms:created>
  <dc:creator>dijobaker</dc:creator>
  <dc:description/>
  <dc:language>en-US</dc:language>
  <cp:lastModifiedBy>laura.arnold</cp:lastModifiedBy>
  <dcterms:modified xsi:type="dcterms:W3CDTF">2013-07-31T14:26:15Z</dcterms:modified>
  <cp:revision>13</cp:revision>
  <dc:subject/>
  <dc:title>American Symbols</dc:title>
</cp:coreProperties>
</file>